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D4AE-5B8C-4725-86BA-0AFE2A21A9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FF36-4812-4402-82B2-FCE188DF52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0D4B-BDBE-490D-9F00-72A827161B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6817-2910-42D8-A3CC-4C26440B70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581D-5929-4E87-B471-F9E7108494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7053-88F8-4FEB-8ABC-A649529DD9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7A03-35FA-4C17-AA98-63E365E24D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41E3-B3F4-4A07-8C80-D07CEAED41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6ED8-5435-452C-BBD1-8DC6A05606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586D-18E1-4DBA-A2A8-38C41634C8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9B0E-2066-4527-994F-24D78C1186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740-6787-4FCB-9A07-EC4A905B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48C-F8D4-489B-A16F-FFA70CDC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BA7-ABC1-4DE8-9C52-92F5AFA3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96F-78C9-4E25-AE35-829CA2D2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AEA-FD48-426D-A62E-F178A137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BFD-B0CD-4C76-9ECD-365F20BE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B440-42E9-4CA0-99DA-AB55AC58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6884-3FD5-45BD-BBD8-B6F155B3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BAA-0806-41A1-8FA4-4DD664B6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7BF-10F8-4C17-AA58-81F42874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972-C7EE-4521-82FD-BE09395A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656-003F-4996-B413-90822B4C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D9E5-4046-46CE-B3EC-8207542CBB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slide" Target="slide17.xml"/><Relationship Id="rId4" Type="http://schemas.openxmlformats.org/officeDocument/2006/relationships/image" Target="../media/image7.png"/><Relationship Id="rId5" Type="http://schemas.openxmlformats.org/officeDocument/2006/relationships/slide" Target="slide18.xml"/><Relationship Id="rId6" Type="http://schemas.openxmlformats.org/officeDocument/2006/relationships/image" Target="../media/image8.png"/><Relationship Id="rId7" Type="http://schemas.openxmlformats.org/officeDocument/2006/relationships/slide" Target="slide19.xml"/><Relationship Id="rId8" Type="http://schemas.openxmlformats.org/officeDocument/2006/relationships/image" Target="../media/image9.png"/><Relationship Id="rId9" Type="http://schemas.openxmlformats.org/officeDocument/2006/relationships/slide" Target="slide20.xml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9;&#1084;&#1086;&#1085;&#1072;&#1074;&#1090;" TargetMode="External"/><Relationship Id="rId2" Type="http://schemas.openxmlformats.org/officeDocument/2006/relationships/hyperlink" Target="http://www.online812.ru/2010/04/12/003/pda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2030760" y="500040"/>
            <a:ext cx="515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МСОУ школа № 10 </a:t>
            </a:r>
            <a:r>
              <a:rPr b="1" lang="en-US" sz="2000" spc="-1" strike="noStrike">
                <a:solidFill>
                  <a:srgbClr val="17375e"/>
                </a:solidFill>
                <a:latin typeface="Georgia"/>
              </a:rPr>
              <a:t>VIII</a:t>
            </a: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 ви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города Ступино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2"/>
          <p:cNvSpPr/>
          <p:nvPr/>
        </p:nvSpPr>
        <p:spPr>
          <a:xfrm>
            <a:off x="1285920" y="1857240"/>
            <a:ext cx="6643800" cy="2500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Black"/>
              </a:rPr>
              <a:t>Викторина «Космическа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4000680" y="52149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асатина Татья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4"/>
          <p:cNvSpPr/>
          <p:nvPr/>
        </p:nvSpPr>
        <p:spPr>
          <a:xfrm>
            <a:off x="878760" y="928800"/>
            <a:ext cx="776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осмонавт, первый  совершив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ыход в открытый космо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Нейл Армстро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алентина Тереш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Юрий Гаг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Алексей Ле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93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96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99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02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4"/>
          <p:cNvSpPr/>
          <p:nvPr/>
        </p:nvSpPr>
        <p:spPr>
          <a:xfrm>
            <a:off x="1398240" y="928800"/>
            <a:ext cx="682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вый полёт Юрия Гагар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дл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20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08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2 су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3 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215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218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221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24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4"/>
          <p:cNvSpPr/>
          <p:nvPr/>
        </p:nvSpPr>
        <p:spPr>
          <a:xfrm>
            <a:off x="797400" y="1071720"/>
            <a:ext cx="767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Самый  пожилой космонавт Джон Г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совершил свой полёт в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77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89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6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237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240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243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46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4"/>
          <p:cNvSpPr/>
          <p:nvPr/>
        </p:nvSpPr>
        <p:spPr>
          <a:xfrm>
            <a:off x="1676880" y="714240"/>
            <a:ext cx="609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алентина Терешк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овершила свой полё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на космическом корабл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Восток – 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Союз – 5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Восток – 8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Восток – 6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259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262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265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68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Скругленный прямоугольник 2"/>
          <p:cNvSpPr/>
          <p:nvPr/>
        </p:nvSpPr>
        <p:spPr>
          <a:xfrm>
            <a:off x="1500120" y="1785960"/>
            <a:ext cx="6429600" cy="3000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Arial Black"/>
              </a:rPr>
              <a:t>Фина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autoRev="1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1" dur="500" autoRev="1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2" dur="500" autoRev="1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Скругленный прямоугольник 1"/>
          <p:cNvSpPr/>
          <p:nvPr/>
        </p:nvSpPr>
        <p:spPr>
          <a:xfrm>
            <a:off x="2643120" y="642960"/>
            <a:ext cx="4214880" cy="857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6"/>
          <p:cNvSpPr/>
          <p:nvPr/>
        </p:nvSpPr>
        <p:spPr>
          <a:xfrm>
            <a:off x="2643120" y="1643040"/>
            <a:ext cx="4214880" cy="857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Филь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7"/>
          <p:cNvSpPr/>
          <p:nvPr/>
        </p:nvSpPr>
        <p:spPr>
          <a:xfrm>
            <a:off x="2643120" y="2643120"/>
            <a:ext cx="4214880" cy="857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рганизм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8"/>
          <p:cNvSpPr/>
          <p:nvPr/>
        </p:nvSpPr>
        <p:spPr>
          <a:xfrm>
            <a:off x="2643120" y="3643200"/>
            <a:ext cx="4214880" cy="857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Земные о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9"/>
          <p:cNvSpPr/>
          <p:nvPr/>
        </p:nvSpPr>
        <p:spPr>
          <a:xfrm>
            <a:off x="2643120" y="4643280"/>
            <a:ext cx="4214880" cy="857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амый - са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Овал 10"/>
          <p:cNvGrpSpPr/>
          <p:nvPr/>
        </p:nvGrpSpPr>
        <p:grpSpPr>
          <a:xfrm>
            <a:off x="1494000" y="585720"/>
            <a:ext cx="938160" cy="919080"/>
            <a:chOff x="1494000" y="585720"/>
            <a:chExt cx="938160" cy="919080"/>
          </a:xfrm>
        </p:grpSpPr>
        <p:pic>
          <p:nvPicPr>
            <p:cNvPr id="283" name="Овал 10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494000" y="585720"/>
              <a:ext cx="93816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685880" y="75564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Овал 11"/>
          <p:cNvGrpSpPr/>
          <p:nvPr/>
        </p:nvGrpSpPr>
        <p:grpSpPr>
          <a:xfrm>
            <a:off x="1487520" y="1584360"/>
            <a:ext cx="944640" cy="920880"/>
            <a:chOff x="1487520" y="1584360"/>
            <a:chExt cx="944640" cy="920880"/>
          </a:xfrm>
        </p:grpSpPr>
        <p:pic>
          <p:nvPicPr>
            <p:cNvPr id="286" name="Овал 11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487520" y="1584360"/>
              <a:ext cx="9446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685880" y="1755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Овал 12"/>
          <p:cNvGrpSpPr/>
          <p:nvPr/>
        </p:nvGrpSpPr>
        <p:grpSpPr>
          <a:xfrm>
            <a:off x="1487520" y="2584440"/>
            <a:ext cx="944640" cy="920880"/>
            <a:chOff x="1487520" y="2584440"/>
            <a:chExt cx="944640" cy="920880"/>
          </a:xfrm>
        </p:grpSpPr>
        <p:pic>
          <p:nvPicPr>
            <p:cNvPr id="289" name="Овал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1487520" y="2584440"/>
              <a:ext cx="9446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1685880" y="275580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Овал 13"/>
          <p:cNvGrpSpPr/>
          <p:nvPr/>
        </p:nvGrpSpPr>
        <p:grpSpPr>
          <a:xfrm>
            <a:off x="1481040" y="3584520"/>
            <a:ext cx="957240" cy="920880"/>
            <a:chOff x="1481040" y="3584520"/>
            <a:chExt cx="957240" cy="920880"/>
          </a:xfrm>
        </p:grpSpPr>
        <p:pic>
          <p:nvPicPr>
            <p:cNvPr id="292" name="Овал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1481040" y="358452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1685880" y="375588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Овал 14"/>
          <p:cNvGrpSpPr/>
          <p:nvPr/>
        </p:nvGrpSpPr>
        <p:grpSpPr>
          <a:xfrm>
            <a:off x="1494000" y="4657680"/>
            <a:ext cx="938160" cy="920880"/>
            <a:chOff x="1494000" y="4657680"/>
            <a:chExt cx="938160" cy="920880"/>
          </a:xfrm>
        </p:grpSpPr>
        <p:pic>
          <p:nvPicPr>
            <p:cNvPr id="295" name="Овал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1494000" y="4657680"/>
              <a:ext cx="938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1685880" y="482760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Прямоугольник 16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Овал 17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Georgia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428760" y="785880"/>
            <a:ext cx="300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ие животные первыми облет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окру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Лу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2643120" y="492912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Черепах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Группа 7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04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Picture 2" descr="F:\новинка\142.jpg"/>
          <p:cNvPicPr/>
          <p:nvPr/>
        </p:nvPicPr>
        <p:blipFill>
          <a:blip r:embed="rId2"/>
          <a:stretch/>
        </p:blipFill>
        <p:spPr>
          <a:xfrm>
            <a:off x="3514680" y="1000080"/>
            <a:ext cx="484812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299" dur="indefinite" restart="never" nodeType="tmRoot">
          <p:childTnLst>
            <p:seq>
              <p:cTn id="300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2"/>
          <p:cNvSpPr/>
          <p:nvPr/>
        </p:nvSpPr>
        <p:spPr>
          <a:xfrm>
            <a:off x="500040" y="857160"/>
            <a:ext cx="4000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ой художественный фильм обязательно смотрят российские космонав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ед полё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"/>
          <p:cNvSpPr/>
          <p:nvPr/>
        </p:nvSpPr>
        <p:spPr>
          <a:xfrm>
            <a:off x="1442160" y="5143680"/>
            <a:ext cx="61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«Белое солнце пустын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Группа 5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11" name="Прямоугольник 6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Овал 7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Прямоугольник 8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F:\новинка\1239767510_1111.jpg"/>
          <p:cNvPicPr/>
          <p:nvPr/>
        </p:nvPicPr>
        <p:blipFill>
          <a:blip r:embed="rId2"/>
          <a:stretch/>
        </p:blipFill>
        <p:spPr>
          <a:xfrm>
            <a:off x="4572000" y="642960"/>
            <a:ext cx="3714840" cy="449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09" dur="indefinite" restart="never" nodeType="tmRoot">
          <p:childTnLst>
            <p:seq>
              <p:cTn id="310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2"/>
          <p:cNvSpPr/>
          <p:nvPr/>
        </p:nvSpPr>
        <p:spPr>
          <a:xfrm>
            <a:off x="642960" y="71424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 космосе давление влияет на позвоночный столб человека. Что происход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 ростом космонав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1059480" y="5000760"/>
            <a:ext cx="72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Рост немного увелич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Группа 4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19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Прямоугольник 7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Рисунок 8" descr="Интересные факты из жизни космонавтов"/>
          <p:cNvPicPr/>
          <p:nvPr/>
        </p:nvPicPr>
        <p:blipFill>
          <a:blip r:embed="rId2"/>
          <a:stretch/>
        </p:blipFill>
        <p:spPr>
          <a:xfrm>
            <a:off x="5357880" y="642960"/>
            <a:ext cx="3000240" cy="442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19" dur="indefinite" restart="never" nodeType="tmRoot">
          <p:childTnLst>
            <p:seq>
              <p:cTn id="320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500040" y="571680"/>
            <a:ext cx="328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ие земные рукотворные объекты видны из космо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1564200" y="5000760"/>
            <a:ext cx="56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Египетские пирам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Группа 4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27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Прямоугольник 7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F:\новинка\piramidi-di-giza-sulla-terra.jpg"/>
          <p:cNvPicPr/>
          <p:nvPr/>
        </p:nvPicPr>
        <p:blipFill>
          <a:blip r:embed="rId2"/>
          <a:srcRect l="1586" t="1980" r="1586" b="2780"/>
          <a:stretch/>
        </p:blipFill>
        <p:spPr>
          <a:xfrm>
            <a:off x="4071960" y="785880"/>
            <a:ext cx="435780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29" dur="indefinite" restart="never" nodeType="tmRoot">
          <p:childTnLst>
            <p:seq>
              <p:cTn id="33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Скругленный прямоугольник 2"/>
          <p:cNvSpPr/>
          <p:nvPr/>
        </p:nvSpPr>
        <p:spPr>
          <a:xfrm>
            <a:off x="2071800" y="1785960"/>
            <a:ext cx="5000400" cy="3000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Arial Black"/>
              </a:rPr>
              <a:t>1 ту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" dur="50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2"/>
          <p:cNvSpPr/>
          <p:nvPr/>
        </p:nvSpPr>
        <p:spPr>
          <a:xfrm>
            <a:off x="642960" y="785880"/>
            <a:ext cx="4286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амый длинный полёт совершил Валерий Поляков. Сколько су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он длил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"/>
          <p:cNvSpPr/>
          <p:nvPr/>
        </p:nvSpPr>
        <p:spPr>
          <a:xfrm>
            <a:off x="3570480" y="4929120"/>
            <a:ext cx="24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438 су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Группа 4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35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Прямоугольник 7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Рисунок 8" descr="Интересные факты из жизни космонавтов"/>
          <p:cNvPicPr/>
          <p:nvPr/>
        </p:nvPicPr>
        <p:blipFill>
          <a:blip r:embed="rId2"/>
          <a:stretch/>
        </p:blipFill>
        <p:spPr>
          <a:xfrm>
            <a:off x="5000760" y="785880"/>
            <a:ext cx="3214440" cy="4143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39" dur="indefinite" restart="never" nodeType="tmRoot">
          <p:childTnLst>
            <p:seq>
              <p:cTn id="340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Скругленный прямоугольник 1"/>
          <p:cNvSpPr/>
          <p:nvPr/>
        </p:nvSpPr>
        <p:spPr>
          <a:xfrm>
            <a:off x="857160" y="1428840"/>
            <a:ext cx="757260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 Black"/>
              </a:rPr>
              <a:t>Поздравляем с победой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54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Скругленный прямоугольник 2"/>
          <p:cNvSpPr/>
          <p:nvPr/>
        </p:nvSpPr>
        <p:spPr>
          <a:xfrm>
            <a:off x="2000160" y="500040"/>
            <a:ext cx="5429520" cy="571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Использованн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"/>
          <p:cNvSpPr/>
          <p:nvPr/>
        </p:nvSpPr>
        <p:spPr>
          <a:xfrm>
            <a:off x="642960" y="1331280"/>
            <a:ext cx="75722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"/>
              </a:rPr>
              <a:t>http://ru.wikipedia.org/wiki/%D0%9A%D0%BE%D1%81%D0%BC%D0%BE%D0%BD%D0%B0%D0%B2%D1%8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http://www.online812.ru/2010/04/12/003/pda.htm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www.liveinternet.ru/users/madonion2008/post121023581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http://epizodsspace.testpilot.ru/bibl/energia-50/14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http://altocasertano.files.wordpress.com/2010/04/piramidi-di-giza-sulla-terra.jpg?w=510&amp;h=4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http://kinogazeta.ru/uploads/posts/2009-04/1239767510_111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2055240" y="1000080"/>
            <a:ext cx="537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вый  полёт в косм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оверш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Герман Т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Юрий Гаг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алентина Тереш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ергей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59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62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65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68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795960" y="1000080"/>
            <a:ext cx="761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 звали собак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тали первопроходцами космо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Зай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Жу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ом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жер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Лёлек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Бол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Белка и Стр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81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84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87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90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4"/>
          <p:cNvSpPr/>
          <p:nvPr/>
        </p:nvSpPr>
        <p:spPr>
          <a:xfrm>
            <a:off x="866160" y="928800"/>
            <a:ext cx="75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колько раз, находясь на орби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можно наблюдать восх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1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16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Ни ра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03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06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09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12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4"/>
          <p:cNvSpPr/>
          <p:nvPr/>
        </p:nvSpPr>
        <p:spPr>
          <a:xfrm>
            <a:off x="1392480" y="785880"/>
            <a:ext cx="624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амый молодой космонав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Герман Титов соверш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вой полёт 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25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18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31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22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25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28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31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34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4"/>
          <p:cNvSpPr/>
          <p:nvPr/>
        </p:nvSpPr>
        <p:spPr>
          <a:xfrm>
            <a:off x="951840" y="642960"/>
            <a:ext cx="720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колько женщин – космонав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насчиты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 современном ми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47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50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53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56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2"/>
          <p:cNvSpPr/>
          <p:nvPr/>
        </p:nvSpPr>
        <p:spPr>
          <a:xfrm>
            <a:off x="2071800" y="1785960"/>
            <a:ext cx="5000400" cy="3000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Arial Black"/>
              </a:rPr>
              <a:t>2 ту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autoRev="1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4" dur="500" autoRev="1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4"/>
          <p:cNvSpPr/>
          <p:nvPr/>
        </p:nvSpPr>
        <p:spPr>
          <a:xfrm>
            <a:off x="792360" y="1000080"/>
            <a:ext cx="761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вый американский астронав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овершил свой пол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2 апр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6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 авгу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6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0 ию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88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 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6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71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74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77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80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8:42:03Z</dcterms:created>
  <dc:creator>Admin</dc:creator>
  <dc:description/>
  <dc:language>en-US</dc:language>
  <cp:lastModifiedBy>Admin</cp:lastModifiedBy>
  <dcterms:modified xsi:type="dcterms:W3CDTF">2011-04-02T18:24:17Z</dcterms:modified>
  <cp:revision>34</cp:revision>
  <dc:subject/>
  <dc:title>Слайд 1</dc:title>
</cp:coreProperties>
</file>